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A95-5EE0-4D92-AA81-4F0AE2FC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780-66BA-4B9A-A078-1244775F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93B-A892-4478-9E98-4133B42C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5C9-E011-4A9E-BAC0-6281CF58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13C-CFAD-4A63-B7CB-D08A53E0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B84-6DBD-4144-AB4A-35739B09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A7D-10E6-482B-B23B-763503A0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760-517B-4BE4-9405-69BDB583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668-3EAF-40A1-9A6C-B7B84FBB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3DF6-BC7C-4847-9D55-237736E7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61F-FCF7-44A8-8049-17417035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6F7-C951-4220-8BBA-5E3AFF56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443B-CEDF-49D3-ADAE-CB5585AFDD1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3357720"/>
            <a:ext cx="4284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ar-SA" sz="7200" spc="-1" strike="noStrike">
                <a:solidFill>
                  <a:srgbClr val="000000"/>
                </a:solidFill>
                <a:latin typeface="Tahoma"/>
                <a:cs typeface="????Boutros Rokaa"/>
              </a:rPr>
              <a:t>خبز  وخمر  وم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7" name=""/>
          <p:cNvSpPr/>
          <p:nvPr/>
        </p:nvSpPr>
        <p:spPr>
          <a:xfrm>
            <a:off x="0" y="18446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 وخمر ومي إيم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بن الله الحيّ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40360" y="1844640"/>
            <a:ext cx="50036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حبّي عم بيدوب عم يِروي القل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سِرُّو المحبوب حبّو رَوَّ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0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نعمه لِلكلّ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جسم ودِما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َ الارض بتضلّ عُربون السما</a:t>
            </a:r>
            <a:r>
              <a:rPr b="1" lang="ar-SA" sz="90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200" y="1903320"/>
            <a:ext cx="90378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ربّي يسو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صَوبَك دَربي طْلو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عم بعْطَش وبْجُو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عطيني ال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3" name=""/>
          <p:cNvSpPr/>
          <p:nvPr/>
        </p:nvSpPr>
        <p:spPr>
          <a:xfrm>
            <a:off x="0" y="18446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 وخمر ومي إيم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بن الله الحيّ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140360" y="1844640"/>
            <a:ext cx="50036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حبّي عم بيدوب عم يِروي القل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سِرُّو المحبوب حبّو رَوَّ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8446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 وخمر ومي إيم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بن الله الحيّ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40360" y="1844640"/>
            <a:ext cx="50036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حبّي عم بيدوب عم يِروي القل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سِرُّو المحبوب حبّو رَوَّ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760"/>
            <a:ext cx="9144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يا سنابل وسهول تبقي ملياني يا بيادر وحقول تبقي حِليان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52640"/>
            <a:ext cx="9144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مطاحن بتدور بتْطَعمي المعمور خبز ونار ونور أطيب قرب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0" y="18446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 وخمر ومي إيم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بن الله الحيّ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140360" y="1844640"/>
            <a:ext cx="50036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حبّي عم بيدوب عم يِروي القل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سِرُّو المحبوب حبّو رَوَّ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179280" y="536400"/>
            <a:ext cx="5545080" cy="28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00"/>
                </a:solidFill>
                <a:latin typeface="Tahoma"/>
                <a:cs typeface="Akhbar MT"/>
              </a:rPr>
              <a:t>يا عْناقيد النور بكروم الد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1826280" y="0"/>
            <a:ext cx="9932760" cy="367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00"/>
                </a:solidFill>
                <a:latin typeface="Tahoma"/>
                <a:cs typeface="Akhbar MT"/>
              </a:rPr>
              <a:t>يا مواسِم ودهور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00"/>
                </a:solidFill>
                <a:latin typeface="Tahoma"/>
                <a:cs typeface="Akhbar MT"/>
              </a:rPr>
              <a:t>فيك بتغتني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5" name=""/>
          <p:cNvSpPr/>
          <p:nvPr/>
        </p:nvSpPr>
        <p:spPr>
          <a:xfrm>
            <a:off x="0" y="1916280"/>
            <a:ext cx="493236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معصرة الدار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سرّ الأسرار خمر ونور ونار كاسة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-</cp:lastModifiedBy>
  <dcterms:modified xsi:type="dcterms:W3CDTF">2003-01-19T17:17:20Z</dcterms:modified>
  <cp:revision>16</cp:revision>
  <dc:subject/>
  <dc:title>PowerPoint Presentation</dc:title>
</cp:coreProperties>
</file>